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drumroll.wav" ContentType="audio/x-wav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E168-F54D-4230-9287-4F9CAB897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D51C-4360-48FA-AE36-2548FB7C3F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CA53-57F7-49E9-8DA5-0D3ADAE7D9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1814-B6A9-4AC3-B824-B0B381F318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D44D-5D57-49AF-A347-B5021F94A0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427A-9303-451C-B007-B1E8F76611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1D9F-3245-47A9-B151-A52AA494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29E-C480-470F-B323-99390100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EC7-19D5-413B-B5B3-2050D500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63C7-75BF-4A30-84F9-13C75D0C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00D8-B499-4B7A-937E-6B8E4EB54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7A50-D258-46F1-A52B-02BA96F0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DBCC-6FB8-4186-B64B-9465576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F59-060F-4D54-AA97-BBD2C421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AF3C-17E4-4F46-BC87-F86FB090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0400-A6DA-41E2-A138-B5431BB4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6BE-8525-43A5-9293-D2777558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5CB-B96A-49F0-B980-D77D060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0D7-B665-48E0-ABBF-18844C14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24A7-80D0-4F4E-974B-D47EC078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29EF-7DEC-41A3-9B63-B5FCC830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08F-8B9D-4878-BCD8-463AF262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CC52-08D3-474B-9043-8DF00980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C6C2-99EF-4BEF-9868-E656D50B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538-2865-47C3-9C30-9321DB61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F91-5163-47A0-A539-C1E114D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DBDC-50D8-456E-A11B-42EE57D7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970-F588-40A6-9514-F689525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9C1-4EAA-4F03-95E0-F3D2072B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6D0-FD3A-4888-8261-5618DCF7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95F9-E665-4B0B-BD1F-20E942D9A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614A-FF7E-4538-99CF-04BCCB09C9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SUPREME COURT @ WORK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on a separate sheet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he current chief Justice of the Supreme Cour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327480" y="3276720"/>
            <a:ext cx="2487600" cy="317016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wheel spokes="1"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853920"/>
            <a:ext cx="9144000" cy="261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en does the Supreme Court do most of its work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3052800" cy="3052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5181480" y="3316320"/>
            <a:ext cx="314964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ircle/>
    <p:sndAc>
      <p:stSnd>
        <p:snd r:embed="rId4" name="drumroll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Explain the “Rule of Four.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3220920" y="2209680"/>
            <a:ext cx="2702160" cy="44071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ver dir="l"/>
    <p:sndAc>
      <p:stSnd>
        <p:snd r:embed="rId3" name="drumroll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en is the October Term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5638680" y="3708360"/>
            <a:ext cx="2828880" cy="2622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990720" y="366408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hecker dir="horz"/>
    <p:sndAc>
      <p:stSnd>
        <p:snd r:embed="rId4" name="drumroll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480" y="6094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Explain the Writ of Certiorari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2647800" y="2744640"/>
            <a:ext cx="3848400" cy="335304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dissolve/>
    <p:sndAc>
      <p:stSnd>
        <p:snd r:embed="rId3" name="drumroll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3-07T12:44:45Z</dcterms:modified>
  <cp:revision>144</cp:revision>
  <dc:subject/>
  <dc:title>D/O: TO EXPLAIN AND IDENTIFY PROBLEMS OF ECONOMICS</dc:title>
</cp:coreProperties>
</file>